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210-4132-49F7-9AD0-4DDF7767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1DC-DFB0-4B8A-9CA9-77196E9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4F1-D10B-4BD7-BA6B-C6554F67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785-D8A2-4B18-9216-FD3BC075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9F0-F38B-4FFA-9929-3967DF92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7CE-32C1-4A26-A4DB-697FFAF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068-434A-4DF3-8B1C-13D41AFE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552-4BA6-47F7-9CE5-00E133C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606-7983-4CCF-962E-9A6F8A50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45C-D80C-4432-A8DF-6E6A699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A24-5781-4886-866F-DF341E0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293-FA83-4338-83FF-D5055CC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861-01EB-4434-8AA5-4A1E0232405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0 Posielam v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 do sveta noci chladn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áhať biednym, chorým, strápe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moja lás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rdciach vašich vlád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ť nádej strat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íťazí nad hriech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vaha vier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dy mocná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balzam Sl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ivým je liek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, Radca v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slabých svojou moc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ím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m žitiu jasný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íťaziť môž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nad smrti nocou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áš Kráľ 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aša verná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m je zná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vami som, váš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mena sláv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práci už čak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pokoj dávam v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46:51Z</dcterms:modified>
  <cp:revision>33</cp:revision>
  <dc:subject/>
  <dc:title>Je veľký náš Pán, on slávy je Kráľ Nech do všetkých strán  spev vrúcnych znie chvál.</dc:title>
</cp:coreProperties>
</file>